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F01C-802E-4600-8E7C-F9C99CF431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міст розділу презентації «Фінансове забезпечення судової системи України у 2013 році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776-F848-4A21-A30D-EEBC8FC2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21AB-DA2A-4206-BF1A-5C4B549E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422F-CAEF-4C61-8FDF-8DB05DB9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1C3-E10B-46A7-9217-97031D91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0BF-C527-4C6B-8760-A5DFAA41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AC14-4233-4554-BBE7-95437E06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BB6-5C28-4E54-912B-9CA2E13A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0D97-0C93-423B-A96B-C53E7F68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219-3195-40B0-B479-D310364D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F2D-1FCA-4D36-8C26-30DF4625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5934-1D40-4491-917E-A1A99A1F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C4D-8795-45BD-AF6D-EC8EBA63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598D-9A15-4E8E-837F-F0E0A25D7BE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C3B5-D48B-4F51-AEBB-5101E31B71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00720" y="5428800"/>
            <a:ext cx="46432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564000" y="4724280"/>
            <a:ext cx="55656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ої судової адміністрації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новій Холодню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Группа 6"/>
          <p:cNvGrpSpPr/>
          <p:nvPr/>
        </p:nvGrpSpPr>
        <p:grpSpPr>
          <a:xfrm>
            <a:off x="0" y="214200"/>
            <a:ext cx="9144000" cy="4870440"/>
            <a:chOff x="0" y="214200"/>
            <a:chExt cx="9144000" cy="4870440"/>
          </a:xfrm>
        </p:grpSpPr>
        <p:sp>
          <p:nvSpPr>
            <p:cNvPr id="51" name="Прямоугольник 4"/>
            <p:cNvSpPr/>
            <p:nvPr/>
          </p:nvSpPr>
          <p:spPr>
            <a:xfrm>
              <a:off x="0" y="2313000"/>
              <a:ext cx="9144000" cy="2771640"/>
            </a:xfrm>
            <a:prstGeom prst="rect">
              <a:avLst/>
            </a:prstGeom>
            <a:solidFill>
              <a:srgbClr val="092991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900" spc="-1" strike="noStrike">
                  <a:solidFill>
                    <a:srgbClr val="ffffff"/>
                  </a:solidFill>
                  <a:latin typeface="Garamond"/>
                </a:rPr>
                <a:t>Державна судова адміністрація України</a:t>
              </a:r>
              <a:endParaRPr b="0" lang="en-US" sz="5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2" descr=""/>
            <p:cNvPicPr/>
            <p:nvPr/>
          </p:nvPicPr>
          <p:blipFill>
            <a:blip r:embed="rId1"/>
            <a:stretch/>
          </p:blipFill>
          <p:spPr>
            <a:xfrm>
              <a:off x="3857760" y="214200"/>
              <a:ext cx="1307880" cy="18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B9DD-2CA3-4FC9-BC26-69A270D407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3"/>
          <p:cNvSpPr/>
          <p:nvPr/>
        </p:nvSpPr>
        <p:spPr>
          <a:xfrm>
            <a:off x="8774280" y="649296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D4FD-E562-4832-9A5F-684939013138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Диаграмма 5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734320" cy="63514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258840" y="129384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1164240" y="404640"/>
            <a:ext cx="752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значення/граничні обсяги на 2014 рік та 2015 рі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4374360" y="1494000"/>
            <a:ext cx="41554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іст/зменшення 2015 року до 2014 рок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2272320" y="1338120"/>
            <a:ext cx="7066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184,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3814920" y="4343400"/>
            <a:ext cx="5374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,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5583600" y="3933720"/>
            <a:ext cx="5374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,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7494480" y="4343400"/>
            <a:ext cx="6393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4,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084560" y="2133720"/>
            <a:ext cx="446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значення на 2014 рік      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 267,7 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Граничні обсяги на 2015 рік </a:t>
            </a:r>
            <a:r>
              <a:rPr b="1" lang="uk-UA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4 306,5 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іст                        38,8 млн грн (0,9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3"/>
          <p:cNvSpPr/>
          <p:nvPr/>
        </p:nvSpPr>
        <p:spPr>
          <a:xfrm>
            <a:off x="8774280" y="649296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149D-DDF4-4AA2-9326-12B5E72AEFF4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Диаграмма 4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734680" cy="64994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291240" y="189000"/>
            <a:ext cx="83966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ння фактичної середньої заробітної пла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вників апаратів судів із середніми показни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вників сфери державного управлі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ЗУ «Про судоустрій і статус суддів» ст. 144 ч.1. Розмір заробітної плати працівників апаратів судів, Державної судової адміністрації України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ціональної школи суддів України, їхнє побутове забезпечення і рівень соціального захисту визначаються закон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 не можуть бути меншими, ніж у відповідних категорій державних службовців органів законодавчої та виконавчої влади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398880" y="19162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799280" y="4005360"/>
            <a:ext cx="820800" cy="946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иц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3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4217760" y="4005360"/>
            <a:ext cx="813240" cy="946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иц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3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,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6666480" y="4076640"/>
            <a:ext cx="813240" cy="946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иц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38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,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3"/>
          <p:cNvSpPr/>
          <p:nvPr/>
        </p:nvSpPr>
        <p:spPr>
          <a:xfrm>
            <a:off x="8774280" y="649296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2BF6-6572-4BD6-B776-1D3343C4C811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Диаграмма 4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661600" cy="64263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542520" y="17589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1172880" y="333360"/>
            <a:ext cx="6644160" cy="947160"/>
          </a:xfrm>
          <a:prstGeom prst="rect">
            <a:avLst/>
          </a:prstGeom>
          <a:solidFill>
            <a:srgbClr val="e6e0ec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ростання мінімальної заробітної пла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 посадового окладу судд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2680560" y="3213000"/>
            <a:ext cx="1093680" cy="1008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1 гр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б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</a:t>
            </a: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,4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5248800" y="1666800"/>
            <a:ext cx="1114920" cy="916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705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бо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</a:t>
            </a: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5,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1979640" y="1666800"/>
            <a:ext cx="2824200" cy="1310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і видат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014 рік  3 585,2 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5 рік  3 401,2 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Зменшення 184,0 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або на</a:t>
            </a: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5,4%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6"/>
          <p:cNvSpPr/>
          <p:nvPr/>
        </p:nvSpPr>
        <p:spPr>
          <a:xfrm>
            <a:off x="714240" y="6488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133720"/>
            <a:ext cx="86058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71f6d"/>
                </a:solidFill>
                <a:latin typeface="Garamond"/>
              </a:rPr>
              <a:t>БЮДЖЕТНИЙ ЗАПИТ </a:t>
            </a:r>
            <a:br>
              <a:rPr sz="6000"/>
            </a:br>
            <a:r>
              <a:rPr b="1" lang="uk-UA" sz="6000" spc="-1" strike="noStrike">
                <a:solidFill>
                  <a:srgbClr val="071f6d"/>
                </a:solidFill>
                <a:latin typeface="Garamond"/>
              </a:rPr>
              <a:t>на 2015 рі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Группа 17"/>
          <p:cNvGrpSpPr/>
          <p:nvPr/>
        </p:nvGrpSpPr>
        <p:grpSpPr>
          <a:xfrm>
            <a:off x="108000" y="189000"/>
            <a:ext cx="8928000" cy="1428840"/>
            <a:chOff x="108000" y="189000"/>
            <a:chExt cx="8928000" cy="1428840"/>
          </a:xfrm>
        </p:grpSpPr>
        <p:pic>
          <p:nvPicPr>
            <p:cNvPr id="57" name="Picture 6" descr=""/>
            <p:cNvPicPr/>
            <p:nvPr/>
          </p:nvPicPr>
          <p:blipFill>
            <a:blip r:embed="rId1"/>
            <a:stretch/>
          </p:blipFill>
          <p:spPr>
            <a:xfrm>
              <a:off x="4053960" y="189000"/>
              <a:ext cx="1036080" cy="12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Прямоугольник 9"/>
            <p:cNvSpPr/>
            <p:nvPr/>
          </p:nvSpPr>
          <p:spPr>
            <a:xfrm>
              <a:off x="108000" y="1546560"/>
              <a:ext cx="8928000" cy="71280"/>
            </a:xfrm>
            <a:prstGeom prst="rect">
              <a:avLst/>
            </a:prstGeom>
            <a:solidFill>
              <a:srgbClr val="092991"/>
            </a:solidFill>
            <a:ln w="19080">
              <a:solidFill>
                <a:srgbClr val="021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Номер слайда 2"/>
          <p:cNvSpPr/>
          <p:nvPr/>
        </p:nvSpPr>
        <p:spPr>
          <a:xfrm>
            <a:off x="8774280" y="6437160"/>
            <a:ext cx="369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20F2-1B0A-4FD9-8D5A-BC9EE7CF3636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158640" y="5842080"/>
            <a:ext cx="58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Інформація представлена без врахування показник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АР Крим та м. Севастополь за 2013, 2014 ро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3"/>
          <p:cNvSpPr/>
          <p:nvPr/>
        </p:nvSpPr>
        <p:spPr>
          <a:xfrm>
            <a:off x="8845560" y="6492960"/>
            <a:ext cx="29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D9BF-4350-421C-9E4B-B915E69886B6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Диаграмма 4" descr=""/>
          <p:cNvPicPr/>
          <p:nvPr/>
        </p:nvPicPr>
        <p:blipFill>
          <a:blip r:embed="rId1"/>
          <a:stretch/>
        </p:blipFill>
        <p:spPr>
          <a:xfrm>
            <a:off x="171360" y="201600"/>
            <a:ext cx="8807400" cy="6424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330120" y="151776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539640" y="404640"/>
            <a:ext cx="80647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наміка потреби у бюджетних кош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124360" y="1517760"/>
            <a:ext cx="366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іст до попереднього року,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357000" y="2133720"/>
            <a:ext cx="866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,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5576400" y="2133720"/>
            <a:ext cx="1018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,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Диаграмма 3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69" name="Номер слайда 4"/>
          <p:cNvSpPr/>
          <p:nvPr/>
        </p:nvSpPr>
        <p:spPr>
          <a:xfrm>
            <a:off x="8721720" y="6492960"/>
            <a:ext cx="44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9846-BE42-4DFB-9050-D7EF0227CF1A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410840" y="260280"/>
            <a:ext cx="6666840" cy="94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наміка потреби у бюджетних кошта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напрямками видатк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33280" y="126828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804000" y="1409760"/>
            <a:ext cx="190188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а РАЗОМ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13 рік -   8 750 млн грн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14 рік -   9 056 млн грн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2015 рік - 10 705 млн гр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2897280" y="2276640"/>
            <a:ext cx="4857480" cy="192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іст/зменшення до попереднього рок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до 2013          2015 до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uk-UA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лн грн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%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uk-UA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лн грн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і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85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,5%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752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2,1%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альні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,4%            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4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9,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чні  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281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20,2%     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153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13,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італьні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8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4,7%         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6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0,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3"/>
          <p:cNvSpPr/>
          <p:nvPr/>
        </p:nvSpPr>
        <p:spPr>
          <a:xfrm>
            <a:off x="8774280" y="6524640"/>
            <a:ext cx="3697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D8E6-BA05-47EF-9923-33F4F146E592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Диаграмма 4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734680" cy="642636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254880" y="146844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1360080" y="463680"/>
            <a:ext cx="74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івень задоволення бюджетного запи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2270160" y="22924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7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502520" y="220500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05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6806880" y="16844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7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1978560" y="1514520"/>
            <a:ext cx="3443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івень задоволення потреби,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3207960" y="40053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6,9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5513040" y="399240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7,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7698960" y="41083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0,2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3"/>
          <p:cNvSpPr/>
          <p:nvPr/>
        </p:nvSpPr>
        <p:spPr>
          <a:xfrm>
            <a:off x="8826480" y="6492960"/>
            <a:ext cx="29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883A-B5AC-448D-9E05-4E8458FF7FE6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Диаграмма 2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734680" cy="6499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611280" y="260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і призначення/граничні обся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жерелами фінансув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327960" y="14572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198160" y="14572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1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502520" y="144144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26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6735240" y="142560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1834920" y="1074600"/>
            <a:ext cx="518868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ріст до попереднього року, млн грн / 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3418560" y="2708280"/>
            <a:ext cx="604440" cy="824040"/>
          </a:xfrm>
          <a:prstGeom prst="rect">
            <a:avLst/>
          </a:prstGeom>
          <a:solidFill>
            <a:srgbClr val="b3eb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2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3436200" y="3933720"/>
            <a:ext cx="604440" cy="824040"/>
          </a:xfrm>
          <a:prstGeom prst="rect">
            <a:avLst/>
          </a:prstGeom>
          <a:solidFill>
            <a:srgbClr val="facef5"/>
          </a:solidFill>
          <a:ln w="9360">
            <a:solidFill>
              <a:srgbClr val="ef57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3405960" y="1533600"/>
            <a:ext cx="604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5801400" y="1528920"/>
            <a:ext cx="604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5827680" y="2565360"/>
            <a:ext cx="604440" cy="824040"/>
          </a:xfrm>
          <a:prstGeom prst="rect">
            <a:avLst/>
          </a:prstGeom>
          <a:solidFill>
            <a:srgbClr val="b3ebff"/>
          </a:solidFill>
          <a:ln w="9360">
            <a:solidFill>
              <a:srgbClr val="81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5853960" y="3933720"/>
            <a:ext cx="604440" cy="824040"/>
          </a:xfrm>
          <a:prstGeom prst="rect">
            <a:avLst/>
          </a:prstGeom>
          <a:solidFill>
            <a:srgbClr val="facef5"/>
          </a:solidFill>
          <a:ln w="9360">
            <a:solidFill>
              <a:srgbClr val="ef57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3"/>
          <p:cNvSpPr/>
          <p:nvPr/>
        </p:nvSpPr>
        <p:spPr>
          <a:xfrm>
            <a:off x="8810640" y="6564240"/>
            <a:ext cx="3333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5FA1-5D30-43F0-8AAB-7B43D9F53923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Диаграмма 2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467640" y="465120"/>
            <a:ext cx="8288280" cy="825480"/>
          </a:xfrm>
          <a:prstGeom prst="rect">
            <a:avLst/>
          </a:prstGeom>
          <a:solidFill>
            <a:srgbClr val="b3ebff"/>
          </a:solidFill>
          <a:ln w="1908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ень задоволення потреби на 2015 рік граничними обсяг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апрямками фінансув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258840" y="153684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838520" y="171144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2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710880" y="4950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2663280" y="1670040"/>
            <a:ext cx="3385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івень задоволення потреби,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4360320" y="501336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,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6160680" y="48610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7,1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7889040" y="511956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,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3"/>
          <p:cNvSpPr/>
          <p:nvPr/>
        </p:nvSpPr>
        <p:spPr>
          <a:xfrm>
            <a:off x="8826480" y="6492960"/>
            <a:ext cx="29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FA4B-168C-4356-BC1F-971C3FECD5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Диаграмма 6" descr=""/>
          <p:cNvPicPr/>
          <p:nvPr/>
        </p:nvPicPr>
        <p:blipFill>
          <a:blip r:embed="rId1"/>
          <a:stretch/>
        </p:blipFill>
        <p:spPr>
          <a:xfrm>
            <a:off x="244440" y="255600"/>
            <a:ext cx="8734320" cy="63532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7"/>
          <p:cNvSpPr/>
          <p:nvPr/>
        </p:nvSpPr>
        <p:spPr>
          <a:xfrm>
            <a:off x="329760" y="9478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947880" y="299880"/>
            <a:ext cx="76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рямування граничних обсягів видатків на 2015 рі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напрямками фінансування у розрізі фонд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5724360" y="1557360"/>
            <a:ext cx="287028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м                   4 306,5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них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гальний фонд 3 416,5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еціальний фонд 890,0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3"/>
          <p:cNvSpPr/>
          <p:nvPr/>
        </p:nvSpPr>
        <p:spPr>
          <a:xfrm>
            <a:off x="8845560" y="6492960"/>
            <a:ext cx="29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ABEE-C8EB-4D4F-A56F-3B902C5A15F7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Диаграмма 4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661600" cy="65721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328680" y="116676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630720" y="336600"/>
            <a:ext cx="79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Забезпечення потреби граничними обсягами на 2015 рі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4729320" y="1492200"/>
            <a:ext cx="353664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Потреба 10 407,6 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Граничні обсяги 4 306,5 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11:43:55Z</dcterms:created>
  <dc:creator>chekryzheva</dc:creator>
  <dc:description/>
  <dc:language>en-US</dc:language>
  <cp:lastModifiedBy>ignatchenko</cp:lastModifiedBy>
  <cp:lastPrinted>2014-08-07T11:36:12Z</cp:lastPrinted>
  <dcterms:modified xsi:type="dcterms:W3CDTF">2014-08-14T06:31:13Z</dcterms:modified>
  <cp:revision>175</cp:revision>
  <dc:subject/>
  <dc:title>Презентация PowerPoint</dc:title>
</cp:coreProperties>
</file>