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1E42-726E-437D-A20B-7F127B9236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міст розділу презентації «Фінансове забезпечення судової системи України у 2013 році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29D-5C39-4446-8E8B-6C40DD06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D21-4FB9-457A-9A95-005126BB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E9A-7941-43D6-99C6-3B72157D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961A-016D-4008-A5DB-51A62B20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0BE5-F43C-4F13-A3CC-B76A23B7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9390-F99C-45B7-BDF7-3267E5F7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F41-EEAF-4ACA-816D-12B083EF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558-BD22-4AA4-ADED-A5E9B55B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C6C-E7EA-4B52-86B1-5F50FFFD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D07-78BA-4EE1-86BA-32478E5D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571-2B64-4CAF-BAFD-5B59C33B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D7B-D313-49D5-8CD4-3FE4285A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716D-41D6-4A98-B081-88C89924586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8A10-E3CC-4913-B845-437FE65B64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00720" y="5428800"/>
            <a:ext cx="46432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564000" y="4724280"/>
            <a:ext cx="55656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ої судової адміністрації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новій Холодню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Группа 6"/>
          <p:cNvGrpSpPr/>
          <p:nvPr/>
        </p:nvGrpSpPr>
        <p:grpSpPr>
          <a:xfrm>
            <a:off x="0" y="214200"/>
            <a:ext cx="9144000" cy="4870440"/>
            <a:chOff x="0" y="214200"/>
            <a:chExt cx="9144000" cy="4870440"/>
          </a:xfrm>
        </p:grpSpPr>
        <p:sp>
          <p:nvSpPr>
            <p:cNvPr id="51" name="Прямоугольник 4"/>
            <p:cNvSpPr/>
            <p:nvPr/>
          </p:nvSpPr>
          <p:spPr>
            <a:xfrm>
              <a:off x="0" y="2313000"/>
              <a:ext cx="9144000" cy="2771640"/>
            </a:xfrm>
            <a:prstGeom prst="rect">
              <a:avLst/>
            </a:prstGeom>
            <a:solidFill>
              <a:srgbClr val="092991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900" spc="-1" strike="noStrike">
                  <a:solidFill>
                    <a:srgbClr val="ffffff"/>
                  </a:solidFill>
                  <a:latin typeface="Garamond"/>
                </a:rPr>
                <a:t>Державна судова адміністрація України</a:t>
              </a:r>
              <a:endParaRPr b="0" lang="en-US" sz="5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2" descr=""/>
            <p:cNvPicPr/>
            <p:nvPr/>
          </p:nvPicPr>
          <p:blipFill>
            <a:blip r:embed="rId1"/>
            <a:stretch/>
          </p:blipFill>
          <p:spPr>
            <a:xfrm>
              <a:off x="3857760" y="214200"/>
              <a:ext cx="1307880" cy="18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A1EE-C66C-49D2-8F1F-C2033807B9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3"/>
          <p:cNvSpPr/>
          <p:nvPr/>
        </p:nvSpPr>
        <p:spPr>
          <a:xfrm>
            <a:off x="8774280" y="649296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5211-9EED-4579-8D97-2558FDF97236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Диаграмма 5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734320" cy="63514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258840" y="129384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1164240" y="404640"/>
            <a:ext cx="752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значення/граничні обсяги на 2014 рік та 2015 рі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4374360" y="1494000"/>
            <a:ext cx="41554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іст/зменшення 2015 року до 2014 рок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2272320" y="1338120"/>
            <a:ext cx="7066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184,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3814920" y="4343400"/>
            <a:ext cx="5374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,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5583600" y="3933720"/>
            <a:ext cx="5374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,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7494480" y="4343400"/>
            <a:ext cx="6393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4,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084560" y="2133720"/>
            <a:ext cx="446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значення на 2014 рік      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 267,7 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Граничні обсяги на 2015 рік </a:t>
            </a:r>
            <a:r>
              <a:rPr b="1" lang="uk-UA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4 306,5 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іст                        38,8 млн грн (0,9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3"/>
          <p:cNvSpPr/>
          <p:nvPr/>
        </p:nvSpPr>
        <p:spPr>
          <a:xfrm>
            <a:off x="8774280" y="649296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A59B-7DA4-4963-9FEA-168C0CE396B5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Диаграмма 4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734680" cy="64994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291240" y="189000"/>
            <a:ext cx="83966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івняння фактичної середньої заробітної пла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вників апаратів судів із середніми показни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вників сфери державного управлі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ЗУ «Про судоустрій і статус суддів» ст. 144 ч.1. Розмір заробітної плати працівників апаратів судів, Державної судової адміністрації України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ціональної школи суддів України, їхнє побутове забезпечення і рівень соціального захисту визначаються закон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 не можуть бути меншими, ніж у відповідних категорій державних службовців органів законодавчої та виконавчої влади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398880" y="19162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799280" y="4005360"/>
            <a:ext cx="820800" cy="946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иц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3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4217760" y="4005360"/>
            <a:ext cx="813240" cy="946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иц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3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,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6666480" y="4076640"/>
            <a:ext cx="813240" cy="946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иц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38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,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3"/>
          <p:cNvSpPr/>
          <p:nvPr/>
        </p:nvSpPr>
        <p:spPr>
          <a:xfrm>
            <a:off x="8774280" y="649296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E804-0000-4E70-B4B5-CDBD2AFA3C5D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Диаграмма 4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661600" cy="64263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542520" y="17589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1172880" y="333360"/>
            <a:ext cx="6644160" cy="947160"/>
          </a:xfrm>
          <a:prstGeom prst="rect">
            <a:avLst/>
          </a:prstGeom>
          <a:solidFill>
            <a:srgbClr val="e6e0ec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ростання мінімальної заробітної пла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 посадового окладу судд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2680560" y="3213000"/>
            <a:ext cx="1093680" cy="1008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1 гр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б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</a:t>
            </a: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,4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5248800" y="1666800"/>
            <a:ext cx="1114920" cy="916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705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бо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</a:t>
            </a: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5,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1979640" y="1666800"/>
            <a:ext cx="2824200" cy="1310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і видат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014 рік  3 585,2 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5 рік  3 401,2 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Зменшення 184,0 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або на</a:t>
            </a: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5,4%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6"/>
          <p:cNvSpPr/>
          <p:nvPr/>
        </p:nvSpPr>
        <p:spPr>
          <a:xfrm>
            <a:off x="714240" y="6488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133720"/>
            <a:ext cx="86058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71f6d"/>
                </a:solidFill>
                <a:latin typeface="Garamond"/>
              </a:rPr>
              <a:t>БЮДЖЕТНИЙ ЗАПИТ </a:t>
            </a:r>
            <a:br>
              <a:rPr sz="6000"/>
            </a:br>
            <a:r>
              <a:rPr b="1" lang="uk-UA" sz="6000" spc="-1" strike="noStrike">
                <a:solidFill>
                  <a:srgbClr val="071f6d"/>
                </a:solidFill>
                <a:latin typeface="Garamond"/>
              </a:rPr>
              <a:t>на 2015 рі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Группа 17"/>
          <p:cNvGrpSpPr/>
          <p:nvPr/>
        </p:nvGrpSpPr>
        <p:grpSpPr>
          <a:xfrm>
            <a:off x="108000" y="189000"/>
            <a:ext cx="8928000" cy="1428840"/>
            <a:chOff x="108000" y="189000"/>
            <a:chExt cx="8928000" cy="1428840"/>
          </a:xfrm>
        </p:grpSpPr>
        <p:pic>
          <p:nvPicPr>
            <p:cNvPr id="57" name="Picture 6" descr=""/>
            <p:cNvPicPr/>
            <p:nvPr/>
          </p:nvPicPr>
          <p:blipFill>
            <a:blip r:embed="rId1"/>
            <a:stretch/>
          </p:blipFill>
          <p:spPr>
            <a:xfrm>
              <a:off x="4053960" y="189000"/>
              <a:ext cx="1036080" cy="12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Прямоугольник 9"/>
            <p:cNvSpPr/>
            <p:nvPr/>
          </p:nvSpPr>
          <p:spPr>
            <a:xfrm>
              <a:off x="108000" y="1546560"/>
              <a:ext cx="8928000" cy="71280"/>
            </a:xfrm>
            <a:prstGeom prst="rect">
              <a:avLst/>
            </a:prstGeom>
            <a:solidFill>
              <a:srgbClr val="092991"/>
            </a:solidFill>
            <a:ln w="19080">
              <a:solidFill>
                <a:srgbClr val="021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Номер слайда 2"/>
          <p:cNvSpPr/>
          <p:nvPr/>
        </p:nvSpPr>
        <p:spPr>
          <a:xfrm>
            <a:off x="8774280" y="6437160"/>
            <a:ext cx="369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363B-70B9-4B13-8108-FA524345C6CF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158640" y="5842080"/>
            <a:ext cx="58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Інформація представлена без врахування показник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АР Крим та м. Севастополь за 2013, 2014 ро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3"/>
          <p:cNvSpPr/>
          <p:nvPr/>
        </p:nvSpPr>
        <p:spPr>
          <a:xfrm>
            <a:off x="8845560" y="6492960"/>
            <a:ext cx="29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1C10-92F0-46BB-BE9F-C11A87714438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Диаграмма 4" descr=""/>
          <p:cNvPicPr/>
          <p:nvPr/>
        </p:nvPicPr>
        <p:blipFill>
          <a:blip r:embed="rId1"/>
          <a:stretch/>
        </p:blipFill>
        <p:spPr>
          <a:xfrm>
            <a:off x="171360" y="201600"/>
            <a:ext cx="8807400" cy="6424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330120" y="151776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539640" y="404640"/>
            <a:ext cx="80647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наміка потреби у бюджетних кош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124360" y="1517760"/>
            <a:ext cx="366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ріст до попереднього року,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357000" y="2133720"/>
            <a:ext cx="866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,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5576400" y="2133720"/>
            <a:ext cx="1018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,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Диаграмма 3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69" name="Номер слайда 4"/>
          <p:cNvSpPr/>
          <p:nvPr/>
        </p:nvSpPr>
        <p:spPr>
          <a:xfrm>
            <a:off x="8721720" y="6492960"/>
            <a:ext cx="44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373C-1872-487C-93BD-4F9F899B4722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410840" y="260280"/>
            <a:ext cx="6666840" cy="94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наміка потреби у бюджетних кошта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напрямками видатк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33280" y="126828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804000" y="1409760"/>
            <a:ext cx="190188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а РАЗОМ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13 рік -   8 750 млн грн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14 рік -   9 056 млн грн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2015 рік - 10 705 млн гр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2897280" y="2276640"/>
            <a:ext cx="4857480" cy="192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ріст/зменшення до попереднього рок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 до 2013          2015 до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uk-UA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лн грн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%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uk-UA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лн грн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і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85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,5%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752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2,1%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альні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,4%            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4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9,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чні  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281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20,2%     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153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13,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італьні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8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4,7%         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6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0,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3"/>
          <p:cNvSpPr/>
          <p:nvPr/>
        </p:nvSpPr>
        <p:spPr>
          <a:xfrm>
            <a:off x="8774280" y="6524640"/>
            <a:ext cx="3697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397A-DB26-43B6-9EA0-8B4689D76D4A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Диаграмма 4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734680" cy="642636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254880" y="146844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1360080" y="463680"/>
            <a:ext cx="74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івень задоволення бюджетного запи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2270160" y="22924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7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4502520" y="220500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05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6806880" y="16844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7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1978560" y="1514520"/>
            <a:ext cx="3443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івень задоволення потреби,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3207960" y="40053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6,9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5513040" y="399240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7,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7698960" y="41083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0,2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3"/>
          <p:cNvSpPr/>
          <p:nvPr/>
        </p:nvSpPr>
        <p:spPr>
          <a:xfrm>
            <a:off x="8826480" y="6492960"/>
            <a:ext cx="29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B17E-DF8F-48FB-B26C-C3DE096CF6AD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Диаграмма 2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734680" cy="6499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611280" y="260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і призначення/граничні обся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жерелами фінансув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327960" y="14572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198160" y="14572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1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502520" y="144144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26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6735240" y="142560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1834920" y="1074600"/>
            <a:ext cx="518868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ріст до попереднього року, млн грн / 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3418560" y="2708280"/>
            <a:ext cx="604440" cy="824040"/>
          </a:xfrm>
          <a:prstGeom prst="rect">
            <a:avLst/>
          </a:prstGeom>
          <a:solidFill>
            <a:srgbClr val="b3eb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2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3436200" y="3933720"/>
            <a:ext cx="604440" cy="824040"/>
          </a:xfrm>
          <a:prstGeom prst="rect">
            <a:avLst/>
          </a:prstGeom>
          <a:solidFill>
            <a:srgbClr val="facef5"/>
          </a:solidFill>
          <a:ln w="9360">
            <a:solidFill>
              <a:srgbClr val="ef57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3405960" y="1533600"/>
            <a:ext cx="604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5801400" y="1528920"/>
            <a:ext cx="604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5827680" y="2565360"/>
            <a:ext cx="604440" cy="824040"/>
          </a:xfrm>
          <a:prstGeom prst="rect">
            <a:avLst/>
          </a:prstGeom>
          <a:solidFill>
            <a:srgbClr val="b3ebff"/>
          </a:solidFill>
          <a:ln w="9360">
            <a:solidFill>
              <a:srgbClr val="81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5853960" y="3933720"/>
            <a:ext cx="604440" cy="824040"/>
          </a:xfrm>
          <a:prstGeom prst="rect">
            <a:avLst/>
          </a:prstGeom>
          <a:solidFill>
            <a:srgbClr val="facef5"/>
          </a:solidFill>
          <a:ln w="9360">
            <a:solidFill>
              <a:srgbClr val="ef57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3"/>
          <p:cNvSpPr/>
          <p:nvPr/>
        </p:nvSpPr>
        <p:spPr>
          <a:xfrm>
            <a:off x="8810640" y="6564240"/>
            <a:ext cx="3333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A397-B12B-4975-917A-DD6C90BE3329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Диаграмма 2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467640" y="465120"/>
            <a:ext cx="8288280" cy="825480"/>
          </a:xfrm>
          <a:prstGeom prst="rect">
            <a:avLst/>
          </a:prstGeom>
          <a:solidFill>
            <a:srgbClr val="b3ebff"/>
          </a:solidFill>
          <a:ln w="1908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вень задоволення потреби на 2015 рік граничними обсяг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апрямками фінансув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258840" y="153684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838520" y="171144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2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3710880" y="4950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2663280" y="1670040"/>
            <a:ext cx="3385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івень задоволення потреби,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4360320" y="501336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0,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6160680" y="48610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7,1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7889040" y="511956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,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3"/>
          <p:cNvSpPr/>
          <p:nvPr/>
        </p:nvSpPr>
        <p:spPr>
          <a:xfrm>
            <a:off x="8826480" y="6492960"/>
            <a:ext cx="29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04C6-D908-4ADA-982B-0E41BF1059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Диаграмма 6" descr=""/>
          <p:cNvPicPr/>
          <p:nvPr/>
        </p:nvPicPr>
        <p:blipFill>
          <a:blip r:embed="rId1"/>
          <a:stretch/>
        </p:blipFill>
        <p:spPr>
          <a:xfrm>
            <a:off x="244440" y="255600"/>
            <a:ext cx="8734320" cy="63532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7"/>
          <p:cNvSpPr/>
          <p:nvPr/>
        </p:nvSpPr>
        <p:spPr>
          <a:xfrm>
            <a:off x="329760" y="9478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947880" y="299880"/>
            <a:ext cx="76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рямування граничних обсягів видатків на 2015 рі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напрямками фінансування у розрізі фонд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5724360" y="1557360"/>
            <a:ext cx="287028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м                   4 306,5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них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гальний фонд 3 416,5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еціальний фонд 890,0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3"/>
          <p:cNvSpPr/>
          <p:nvPr/>
        </p:nvSpPr>
        <p:spPr>
          <a:xfrm>
            <a:off x="8845560" y="6492960"/>
            <a:ext cx="29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F51E-50A5-4F04-84E8-232CC4330E06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Диаграмма 4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661600" cy="65721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328680" y="116676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630720" y="336600"/>
            <a:ext cx="79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Забезпечення потреби граничними обсягами на 2015 рі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4729320" y="1492200"/>
            <a:ext cx="353664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Потреба 10 407,6 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Граничні обсяги 4 306,5 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11:43:55Z</dcterms:created>
  <dc:creator>chekryzheva</dc:creator>
  <dc:description/>
  <dc:language>en-US</dc:language>
  <cp:lastModifiedBy>ignatchenko</cp:lastModifiedBy>
  <cp:lastPrinted>2014-08-07T11:36:12Z</cp:lastPrinted>
  <dcterms:modified xsi:type="dcterms:W3CDTF">2014-08-14T06:31:13Z</dcterms:modified>
  <cp:revision>175</cp:revision>
  <dc:subject/>
  <dc:title>Презентация PowerPoint</dc:title>
</cp:coreProperties>
</file>